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6B6-62FB-4006-A8FA-7F54925C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CBF-4697-4C8D-930E-681A6AE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519-4B5D-422B-B04B-3BDC103A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676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5480" y="14907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76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676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5480" y="3976560"/>
            <a:ext cx="35319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2E9-9ACC-44A7-9D15-0BBCE588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D14-DFCC-433D-98D4-5F8A9E6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CB7-2623-46D3-B8AE-CEA3377E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106-CC06-43A0-A056-2F475A0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52B-CDFF-4DA8-9CCA-543D62F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7680" y="608040"/>
            <a:ext cx="109695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1B9-BE34-4070-B213-4A4D418C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1C9-FE40-4ABA-93CE-1C46B00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8720" y="39765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0DC-3C5F-4274-9081-987C5A4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768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8720" y="1490760"/>
            <a:ext cx="535284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7680" y="3976560"/>
            <a:ext cx="109695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D39-A296-4C52-BC72-DC6C020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608040"/>
            <a:ext cx="109695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1490760"/>
            <a:ext cx="1096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457200" indent="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371600" indent="-4572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1828800" indent="-9144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1828800" indent="-9144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314760"/>
            <a:ext cx="26989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4DA5-D07E-4344-8658-3A770471093A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6240" y="6314760"/>
            <a:ext cx="3959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76880" y="6314760"/>
            <a:ext cx="27003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7BD-65BD-4EA8-B8C3-164C30A250F1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33480" y="63360"/>
            <a:ext cx="12123720" cy="66088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8"/>
          <p:cNvSpPr/>
          <p:nvPr/>
        </p:nvSpPr>
        <p:spPr>
          <a:xfrm>
            <a:off x="3457440" y="5605560"/>
            <a:ext cx="684360" cy="769680"/>
          </a:xfrm>
          <a:custGeom>
            <a:avLst/>
            <a:gdLst/>
            <a:ahLst/>
            <a:rect l="l" t="t" r="r" b="b"/>
            <a:pathLst>
              <a:path w="846455" h="979170">
                <a:moveTo>
                  <a:pt x="58420" y="0"/>
                </a:moveTo>
                <a:lnTo>
                  <a:pt x="782955" y="0"/>
                </a:lnTo>
                <a:lnTo>
                  <a:pt x="846455" y="63500"/>
                </a:lnTo>
                <a:lnTo>
                  <a:pt x="846455" y="719455"/>
                </a:lnTo>
                <a:lnTo>
                  <a:pt x="798195" y="804545"/>
                </a:lnTo>
                <a:lnTo>
                  <a:pt x="592455" y="883920"/>
                </a:lnTo>
                <a:lnTo>
                  <a:pt x="481330" y="925830"/>
                </a:lnTo>
                <a:lnTo>
                  <a:pt x="259080" y="973455"/>
                </a:lnTo>
                <a:lnTo>
                  <a:pt x="52705" y="979170"/>
                </a:lnTo>
                <a:lnTo>
                  <a:pt x="0" y="915670"/>
                </a:lnTo>
                <a:lnTo>
                  <a:pt x="0" y="47625"/>
                </a:lnTo>
                <a:lnTo>
                  <a:pt x="5842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3"/>
          <p:cNvSpPr/>
          <p:nvPr/>
        </p:nvSpPr>
        <p:spPr>
          <a:xfrm>
            <a:off x="3635280" y="58690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9"/>
          <p:cNvSpPr/>
          <p:nvPr/>
        </p:nvSpPr>
        <p:spPr>
          <a:xfrm>
            <a:off x="2325600" y="5605560"/>
            <a:ext cx="1047960" cy="769680"/>
          </a:xfrm>
          <a:custGeom>
            <a:avLst/>
            <a:gdLst/>
            <a:ahLst/>
            <a:rect l="l" t="t" r="r" b="b"/>
            <a:pathLst>
              <a:path w="1381125" h="942340">
                <a:moveTo>
                  <a:pt x="58420" y="0"/>
                </a:moveTo>
                <a:lnTo>
                  <a:pt x="1312545" y="10795"/>
                </a:lnTo>
                <a:lnTo>
                  <a:pt x="1381125" y="79375"/>
                </a:lnTo>
                <a:lnTo>
                  <a:pt x="1381125" y="904875"/>
                </a:lnTo>
                <a:lnTo>
                  <a:pt x="1338580" y="942340"/>
                </a:lnTo>
                <a:lnTo>
                  <a:pt x="1296670" y="931545"/>
                </a:lnTo>
                <a:lnTo>
                  <a:pt x="698500" y="640715"/>
                </a:lnTo>
                <a:lnTo>
                  <a:pt x="528955" y="614045"/>
                </a:lnTo>
                <a:lnTo>
                  <a:pt x="63500" y="619125"/>
                </a:lnTo>
                <a:lnTo>
                  <a:pt x="0" y="561340"/>
                </a:lnTo>
                <a:lnTo>
                  <a:pt x="5080" y="53340"/>
                </a:lnTo>
                <a:lnTo>
                  <a:pt x="5842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3"/>
          <p:cNvSpPr/>
          <p:nvPr/>
        </p:nvSpPr>
        <p:spPr>
          <a:xfrm>
            <a:off x="2619360" y="586728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"/>
          <p:cNvSpPr/>
          <p:nvPr/>
        </p:nvSpPr>
        <p:spPr>
          <a:xfrm>
            <a:off x="2325600" y="4597560"/>
            <a:ext cx="1046160" cy="950760"/>
          </a:xfrm>
          <a:custGeom>
            <a:avLst/>
            <a:gdLst/>
            <a:ahLst/>
            <a:rect l="l" t="t" r="r" b="b"/>
            <a:pathLst>
              <a:path w="1365250" h="1264920">
                <a:moveTo>
                  <a:pt x="68580" y="1254125"/>
                </a:moveTo>
                <a:lnTo>
                  <a:pt x="1163955" y="1264920"/>
                </a:lnTo>
                <a:lnTo>
                  <a:pt x="1163955" y="1016000"/>
                </a:lnTo>
                <a:lnTo>
                  <a:pt x="1360170" y="1016000"/>
                </a:lnTo>
                <a:lnTo>
                  <a:pt x="1365250" y="63500"/>
                </a:lnTo>
                <a:lnTo>
                  <a:pt x="1312545" y="5715"/>
                </a:lnTo>
                <a:lnTo>
                  <a:pt x="497205" y="0"/>
                </a:lnTo>
                <a:lnTo>
                  <a:pt x="433705" y="53340"/>
                </a:lnTo>
                <a:lnTo>
                  <a:pt x="47625" y="984250"/>
                </a:lnTo>
                <a:lnTo>
                  <a:pt x="0" y="1180465"/>
                </a:lnTo>
                <a:lnTo>
                  <a:pt x="68580" y="125412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3"/>
          <p:cNvSpPr/>
          <p:nvPr/>
        </p:nvSpPr>
        <p:spPr>
          <a:xfrm>
            <a:off x="2619360" y="4950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3"/>
          <p:cNvSpPr/>
          <p:nvPr/>
        </p:nvSpPr>
        <p:spPr>
          <a:xfrm>
            <a:off x="2938320" y="3419640"/>
            <a:ext cx="1143000" cy="466560"/>
          </a:xfrm>
          <a:custGeom>
            <a:avLst/>
            <a:gdLst/>
            <a:ahLst/>
            <a:rect l="l" t="t" r="r" b="b"/>
            <a:pathLst>
              <a:path w="1143000" h="466725">
                <a:moveTo>
                  <a:pt x="0" y="466725"/>
                </a:moveTo>
                <a:lnTo>
                  <a:pt x="1143000" y="466725"/>
                </a:lnTo>
                <a:lnTo>
                  <a:pt x="1143000" y="76200"/>
                </a:lnTo>
                <a:lnTo>
                  <a:pt x="1099820" y="0"/>
                </a:lnTo>
                <a:lnTo>
                  <a:pt x="257175" y="0"/>
                </a:lnTo>
                <a:lnTo>
                  <a:pt x="171450" y="85725"/>
                </a:lnTo>
                <a:lnTo>
                  <a:pt x="0" y="466725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3"/>
          <p:cNvSpPr/>
          <p:nvPr/>
        </p:nvSpPr>
        <p:spPr>
          <a:xfrm>
            <a:off x="3303720" y="3530520"/>
            <a:ext cx="3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4"/>
          <p:cNvSpPr/>
          <p:nvPr/>
        </p:nvSpPr>
        <p:spPr>
          <a:xfrm>
            <a:off x="4205160" y="3395520"/>
            <a:ext cx="462240" cy="1047960"/>
          </a:xfrm>
          <a:custGeom>
            <a:avLst/>
            <a:gdLst/>
            <a:ahLst/>
            <a:rect l="l" t="t" r="r" b="b"/>
            <a:pathLst>
              <a:path w="390525" h="1047750">
                <a:moveTo>
                  <a:pt x="85725" y="28575"/>
                </a:moveTo>
                <a:lnTo>
                  <a:pt x="0" y="95250"/>
                </a:lnTo>
                <a:lnTo>
                  <a:pt x="0" y="971550"/>
                </a:lnTo>
                <a:lnTo>
                  <a:pt x="76200" y="1047750"/>
                </a:lnTo>
                <a:lnTo>
                  <a:pt x="390525" y="1047750"/>
                </a:lnTo>
                <a:lnTo>
                  <a:pt x="390525" y="0"/>
                </a:lnTo>
                <a:lnTo>
                  <a:pt x="85725" y="2857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6"/>
          <p:cNvSpPr/>
          <p:nvPr/>
        </p:nvSpPr>
        <p:spPr>
          <a:xfrm>
            <a:off x="4786200" y="3386160"/>
            <a:ext cx="433440" cy="1057320"/>
          </a:xfrm>
          <a:custGeom>
            <a:avLst/>
            <a:gdLst/>
            <a:ahLst/>
            <a:rect l="l" t="t" r="r" b="b"/>
            <a:pathLst>
              <a:path w="409575" h="1057275">
                <a:moveTo>
                  <a:pt x="314325" y="0"/>
                </a:moveTo>
                <a:lnTo>
                  <a:pt x="409575" y="123825"/>
                </a:lnTo>
                <a:lnTo>
                  <a:pt x="400050" y="971550"/>
                </a:lnTo>
                <a:lnTo>
                  <a:pt x="342900" y="1057275"/>
                </a:lnTo>
                <a:lnTo>
                  <a:pt x="0" y="1057275"/>
                </a:lnTo>
                <a:lnTo>
                  <a:pt x="0" y="19050"/>
                </a:lnTo>
                <a:lnTo>
                  <a:pt x="314325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3"/>
          <p:cNvSpPr/>
          <p:nvPr/>
        </p:nvSpPr>
        <p:spPr>
          <a:xfrm>
            <a:off x="4205160" y="37749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3"/>
          <p:cNvSpPr/>
          <p:nvPr/>
        </p:nvSpPr>
        <p:spPr>
          <a:xfrm>
            <a:off x="4786200" y="377496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52"/>
          <p:cNvSpPr/>
          <p:nvPr/>
        </p:nvSpPr>
        <p:spPr>
          <a:xfrm>
            <a:off x="5400720" y="4597560"/>
            <a:ext cx="218880" cy="950760"/>
          </a:xfrm>
          <a:custGeom>
            <a:avLst/>
            <a:gdLst/>
            <a:ahLst/>
            <a:rect l="l" t="t" r="r" b="b"/>
            <a:pathLst>
              <a:path w="200025" h="990600">
                <a:moveTo>
                  <a:pt x="152400" y="0"/>
                </a:moveTo>
                <a:lnTo>
                  <a:pt x="152400" y="333375"/>
                </a:lnTo>
                <a:lnTo>
                  <a:pt x="200025" y="333375"/>
                </a:lnTo>
                <a:lnTo>
                  <a:pt x="200025" y="981075"/>
                </a:lnTo>
                <a:lnTo>
                  <a:pt x="47625" y="990600"/>
                </a:lnTo>
                <a:lnTo>
                  <a:pt x="0" y="942975"/>
                </a:lnTo>
                <a:lnTo>
                  <a:pt x="0" y="57150"/>
                </a:lnTo>
                <a:lnTo>
                  <a:pt x="66675" y="0"/>
                </a:lnTo>
                <a:lnTo>
                  <a:pt x="152400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3"/>
          <p:cNvSpPr/>
          <p:nvPr/>
        </p:nvSpPr>
        <p:spPr>
          <a:xfrm>
            <a:off x="5400720" y="508176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62"/>
          <p:cNvSpPr/>
          <p:nvPr/>
        </p:nvSpPr>
        <p:spPr>
          <a:xfrm>
            <a:off x="6515280" y="3395520"/>
            <a:ext cx="591840" cy="1057320"/>
          </a:xfrm>
          <a:custGeom>
            <a:avLst/>
            <a:gdLst/>
            <a:ahLst/>
            <a:rect l="l" t="t" r="r" b="b"/>
            <a:pathLst>
              <a:path w="704850" h="1543050">
                <a:moveTo>
                  <a:pt x="0" y="19050"/>
                </a:moveTo>
                <a:lnTo>
                  <a:pt x="0" y="209550"/>
                </a:lnTo>
                <a:lnTo>
                  <a:pt x="95250" y="209550"/>
                </a:lnTo>
                <a:lnTo>
                  <a:pt x="80645" y="266700"/>
                </a:lnTo>
                <a:lnTo>
                  <a:pt x="190500" y="266700"/>
                </a:lnTo>
                <a:lnTo>
                  <a:pt x="209550" y="337820"/>
                </a:lnTo>
                <a:lnTo>
                  <a:pt x="285750" y="371475"/>
                </a:lnTo>
                <a:lnTo>
                  <a:pt x="419100" y="809625"/>
                </a:lnTo>
                <a:lnTo>
                  <a:pt x="228600" y="860425"/>
                </a:lnTo>
                <a:lnTo>
                  <a:pt x="419100" y="1362075"/>
                </a:lnTo>
                <a:lnTo>
                  <a:pt x="28575" y="1362075"/>
                </a:lnTo>
                <a:lnTo>
                  <a:pt x="28575" y="1533525"/>
                </a:lnTo>
                <a:lnTo>
                  <a:pt x="676275" y="1543050"/>
                </a:lnTo>
                <a:lnTo>
                  <a:pt x="704850" y="1466850"/>
                </a:lnTo>
                <a:lnTo>
                  <a:pt x="266700" y="57150"/>
                </a:lnTo>
                <a:lnTo>
                  <a:pt x="180975" y="0"/>
                </a:lnTo>
                <a:lnTo>
                  <a:pt x="0" y="1905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3"/>
          <p:cNvSpPr/>
          <p:nvPr/>
        </p:nvSpPr>
        <p:spPr>
          <a:xfrm>
            <a:off x="6711840" y="40194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2"/>
          <p:cNvSpPr/>
          <p:nvPr/>
        </p:nvSpPr>
        <p:spPr>
          <a:xfrm>
            <a:off x="1127160" y="4695840"/>
            <a:ext cx="1200240" cy="1019160"/>
          </a:xfrm>
          <a:custGeom>
            <a:avLst/>
            <a:gdLst/>
            <a:ahLst/>
            <a:rect l="l" t="t" r="r" b="b"/>
            <a:pathLst>
              <a:path w="1200150" h="1019175">
                <a:moveTo>
                  <a:pt x="638175" y="1019175"/>
                </a:moveTo>
                <a:lnTo>
                  <a:pt x="1047750" y="981075"/>
                </a:lnTo>
                <a:lnTo>
                  <a:pt x="1057275" y="819150"/>
                </a:lnTo>
                <a:lnTo>
                  <a:pt x="1095375" y="676275"/>
                </a:lnTo>
                <a:lnTo>
                  <a:pt x="1200150" y="409575"/>
                </a:lnTo>
                <a:lnTo>
                  <a:pt x="190500" y="0"/>
                </a:lnTo>
                <a:lnTo>
                  <a:pt x="0" y="542925"/>
                </a:lnTo>
                <a:lnTo>
                  <a:pt x="266700" y="638175"/>
                </a:lnTo>
                <a:lnTo>
                  <a:pt x="390525" y="676275"/>
                </a:lnTo>
                <a:lnTo>
                  <a:pt x="552450" y="819150"/>
                </a:lnTo>
                <a:lnTo>
                  <a:pt x="638175" y="1019175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3"/>
          <p:cNvSpPr/>
          <p:nvPr/>
        </p:nvSpPr>
        <p:spPr>
          <a:xfrm>
            <a:off x="1612800" y="5081760"/>
            <a:ext cx="3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5"/>
          <p:cNvSpPr/>
          <p:nvPr/>
        </p:nvSpPr>
        <p:spPr>
          <a:xfrm>
            <a:off x="7346880" y="4378320"/>
            <a:ext cx="1009800" cy="1162080"/>
          </a:xfrm>
          <a:custGeom>
            <a:avLst/>
            <a:gdLst/>
            <a:ahLst/>
            <a:rect l="l" t="t" r="r" b="b"/>
            <a:pathLst>
              <a:path w="1009650" h="1162050">
                <a:moveTo>
                  <a:pt x="733425" y="0"/>
                </a:moveTo>
                <a:lnTo>
                  <a:pt x="1009650" y="990600"/>
                </a:lnTo>
                <a:lnTo>
                  <a:pt x="390525" y="1162050"/>
                </a:lnTo>
                <a:lnTo>
                  <a:pt x="295275" y="1143000"/>
                </a:lnTo>
                <a:lnTo>
                  <a:pt x="238125" y="1038225"/>
                </a:lnTo>
                <a:lnTo>
                  <a:pt x="0" y="238125"/>
                </a:lnTo>
                <a:lnTo>
                  <a:pt x="38100" y="171450"/>
                </a:lnTo>
                <a:lnTo>
                  <a:pt x="733425" y="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"/>
          <p:cNvSpPr/>
          <p:nvPr/>
        </p:nvSpPr>
        <p:spPr>
          <a:xfrm>
            <a:off x="7527960" y="48369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7"/>
          <p:cNvSpPr/>
          <p:nvPr/>
        </p:nvSpPr>
        <p:spPr>
          <a:xfrm>
            <a:off x="10490040" y="2935440"/>
            <a:ext cx="733680" cy="637920"/>
          </a:xfrm>
          <a:custGeom>
            <a:avLst/>
            <a:gdLst/>
            <a:ahLst/>
            <a:rect l="l" t="t" r="r" b="b"/>
            <a:pathLst>
              <a:path w="733425" h="638175">
                <a:moveTo>
                  <a:pt x="0" y="0"/>
                </a:moveTo>
                <a:lnTo>
                  <a:pt x="733425" y="0"/>
                </a:lnTo>
                <a:lnTo>
                  <a:pt x="733425" y="638175"/>
                </a:lnTo>
                <a:lnTo>
                  <a:pt x="114300" y="628650"/>
                </a:lnTo>
                <a:lnTo>
                  <a:pt x="9525" y="56197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3"/>
          <p:cNvSpPr/>
          <p:nvPr/>
        </p:nvSpPr>
        <p:spPr>
          <a:xfrm>
            <a:off x="10693440" y="313200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9"/>
          <p:cNvSpPr/>
          <p:nvPr/>
        </p:nvSpPr>
        <p:spPr>
          <a:xfrm>
            <a:off x="10509120" y="3757680"/>
            <a:ext cx="695520" cy="333360"/>
          </a:xfrm>
          <a:custGeom>
            <a:avLst/>
            <a:gdLst/>
            <a:ahLst/>
            <a:rect l="l" t="t" r="r" b="b"/>
            <a:pathLst>
              <a:path w="695325" h="333375">
                <a:moveTo>
                  <a:pt x="66675" y="0"/>
                </a:moveTo>
                <a:lnTo>
                  <a:pt x="0" y="76200"/>
                </a:lnTo>
                <a:lnTo>
                  <a:pt x="0" y="333375"/>
                </a:lnTo>
                <a:lnTo>
                  <a:pt x="695325" y="333375"/>
                </a:lnTo>
                <a:lnTo>
                  <a:pt x="695325" y="9525"/>
                </a:lnTo>
                <a:lnTo>
                  <a:pt x="66675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10626840" y="378792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31"/>
          <p:cNvSpPr/>
          <p:nvPr/>
        </p:nvSpPr>
        <p:spPr>
          <a:xfrm>
            <a:off x="5313240" y="3376440"/>
            <a:ext cx="438120" cy="1076400"/>
          </a:xfrm>
          <a:custGeom>
            <a:avLst/>
            <a:gdLst/>
            <a:ahLst/>
            <a:rect l="l" t="t" r="r" b="b"/>
            <a:pathLst>
              <a:path w="438150" h="1076325">
                <a:moveTo>
                  <a:pt x="228600" y="9525"/>
                </a:moveTo>
                <a:lnTo>
                  <a:pt x="228600" y="95250"/>
                </a:lnTo>
                <a:lnTo>
                  <a:pt x="438150" y="95250"/>
                </a:lnTo>
                <a:lnTo>
                  <a:pt x="438150" y="1076325"/>
                </a:lnTo>
                <a:lnTo>
                  <a:pt x="66675" y="1076325"/>
                </a:lnTo>
                <a:lnTo>
                  <a:pt x="0" y="1010285"/>
                </a:lnTo>
                <a:lnTo>
                  <a:pt x="0" y="76200"/>
                </a:lnTo>
                <a:lnTo>
                  <a:pt x="43815" y="0"/>
                </a:lnTo>
                <a:lnTo>
                  <a:pt x="79375" y="9525"/>
                </a:lnTo>
                <a:lnTo>
                  <a:pt x="228600" y="952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3"/>
          <p:cNvSpPr/>
          <p:nvPr/>
        </p:nvSpPr>
        <p:spPr>
          <a:xfrm>
            <a:off x="5313240" y="378792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1"/>
          <p:cNvSpPr/>
          <p:nvPr/>
        </p:nvSpPr>
        <p:spPr>
          <a:xfrm>
            <a:off x="5607000" y="38160"/>
            <a:ext cx="1135080" cy="674640"/>
          </a:xfrm>
          <a:custGeom>
            <a:avLst/>
            <a:gdLst/>
            <a:ahLst/>
            <a:rect l="l" t="t" r="r" b="b"/>
            <a:pathLst>
              <a:path w="1134745" h="675005">
                <a:moveTo>
                  <a:pt x="0" y="647065"/>
                </a:moveTo>
                <a:lnTo>
                  <a:pt x="0" y="318770"/>
                </a:lnTo>
                <a:lnTo>
                  <a:pt x="328295" y="0"/>
                </a:lnTo>
                <a:lnTo>
                  <a:pt x="1134745" y="0"/>
                </a:lnTo>
                <a:lnTo>
                  <a:pt x="947420" y="590550"/>
                </a:lnTo>
                <a:lnTo>
                  <a:pt x="881380" y="675005"/>
                </a:lnTo>
                <a:lnTo>
                  <a:pt x="0" y="647065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3"/>
          <p:cNvSpPr/>
          <p:nvPr/>
        </p:nvSpPr>
        <p:spPr>
          <a:xfrm>
            <a:off x="5931000" y="25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0"/>
          <p:cNvGrpSpPr/>
          <p:nvPr/>
        </p:nvGrpSpPr>
        <p:grpSpPr>
          <a:xfrm>
            <a:off x="324000" y="128520"/>
            <a:ext cx="5910120" cy="6670800"/>
            <a:chOff x="324000" y="128520"/>
            <a:chExt cx="5910120" cy="6670800"/>
          </a:xfrm>
        </p:grpSpPr>
        <p:pic>
          <p:nvPicPr>
            <p:cNvPr id="71" name="图片 1" descr="通江片区-2"/>
            <p:cNvPicPr/>
            <p:nvPr/>
          </p:nvPicPr>
          <p:blipFill>
            <a:blip r:embed="rId1"/>
            <a:srcRect l="11440" t="0" r="12991" b="26626"/>
            <a:stretch/>
          </p:blipFill>
          <p:spPr>
            <a:xfrm>
              <a:off x="324000" y="128520"/>
              <a:ext cx="5910120" cy="667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任意多边形 2"/>
            <p:cNvSpPr/>
            <p:nvPr/>
          </p:nvSpPr>
          <p:spPr>
            <a:xfrm>
              <a:off x="2291760" y="5443920"/>
              <a:ext cx="411840" cy="421560"/>
            </a:xfrm>
            <a:custGeom>
              <a:avLst/>
              <a:gdLst/>
              <a:ahLst/>
              <a:rect l="l" t="t" r="r" b="b"/>
              <a:pathLst>
                <a:path w="342900" h="352425">
                  <a:moveTo>
                    <a:pt x="0" y="295275"/>
                  </a:moveTo>
                  <a:lnTo>
                    <a:pt x="180975" y="295275"/>
                  </a:lnTo>
                  <a:lnTo>
                    <a:pt x="180975" y="352425"/>
                  </a:lnTo>
                  <a:lnTo>
                    <a:pt x="285750" y="352425"/>
                  </a:lnTo>
                  <a:lnTo>
                    <a:pt x="285750" y="209550"/>
                  </a:lnTo>
                  <a:lnTo>
                    <a:pt x="342900" y="209550"/>
                  </a:lnTo>
                  <a:lnTo>
                    <a:pt x="342900" y="0"/>
                  </a:lnTo>
                  <a:lnTo>
                    <a:pt x="47625" y="0"/>
                  </a:lnTo>
                  <a:lnTo>
                    <a:pt x="15240" y="57150"/>
                  </a:lnTo>
                  <a:lnTo>
                    <a:pt x="0" y="29527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3"/>
            <p:cNvSpPr/>
            <p:nvPr/>
          </p:nvSpPr>
          <p:spPr>
            <a:xfrm>
              <a:off x="2265120" y="544392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"/>
            <p:cNvSpPr/>
            <p:nvPr/>
          </p:nvSpPr>
          <p:spPr>
            <a:xfrm>
              <a:off x="667080" y="3768840"/>
              <a:ext cx="343080" cy="398520"/>
            </a:xfrm>
            <a:custGeom>
              <a:avLst/>
              <a:gdLst/>
              <a:ahLst/>
              <a:rect l="l" t="t" r="r" b="b"/>
              <a:pathLst>
                <a:path w="285750" h="333375">
                  <a:moveTo>
                    <a:pt x="38100" y="0"/>
                  </a:moveTo>
                  <a:lnTo>
                    <a:pt x="285750" y="0"/>
                  </a:lnTo>
                  <a:lnTo>
                    <a:pt x="257175" y="333375"/>
                  </a:lnTo>
                  <a:lnTo>
                    <a:pt x="57150" y="323850"/>
                  </a:lnTo>
                  <a:lnTo>
                    <a:pt x="0" y="276225"/>
                  </a:lnTo>
                  <a:lnTo>
                    <a:pt x="3810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5"/>
            <p:cNvSpPr/>
            <p:nvPr/>
          </p:nvSpPr>
          <p:spPr>
            <a:xfrm>
              <a:off x="667080" y="3821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8"/>
            <p:cNvSpPr/>
            <p:nvPr/>
          </p:nvSpPr>
          <p:spPr>
            <a:xfrm>
              <a:off x="724320" y="3347280"/>
              <a:ext cx="1201320" cy="410040"/>
            </a:xfrm>
            <a:custGeom>
              <a:avLst/>
              <a:gdLst/>
              <a:ahLst/>
              <a:rect l="l" t="t" r="r" b="b"/>
              <a:pathLst>
                <a:path w="1000125" h="342900">
                  <a:moveTo>
                    <a:pt x="0" y="342900"/>
                  </a:moveTo>
                  <a:lnTo>
                    <a:pt x="1000125" y="342900"/>
                  </a:lnTo>
                  <a:lnTo>
                    <a:pt x="1000125" y="228600"/>
                  </a:lnTo>
                  <a:lnTo>
                    <a:pt x="990600" y="161925"/>
                  </a:lnTo>
                  <a:lnTo>
                    <a:pt x="942975" y="104775"/>
                  </a:lnTo>
                  <a:lnTo>
                    <a:pt x="904875" y="76200"/>
                  </a:lnTo>
                  <a:lnTo>
                    <a:pt x="904875" y="0"/>
                  </a:lnTo>
                  <a:lnTo>
                    <a:pt x="114300" y="0"/>
                  </a:lnTo>
                  <a:lnTo>
                    <a:pt x="28575" y="66675"/>
                  </a:lnTo>
                  <a:lnTo>
                    <a:pt x="0" y="3429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9"/>
            <p:cNvSpPr/>
            <p:nvPr/>
          </p:nvSpPr>
          <p:spPr>
            <a:xfrm>
              <a:off x="1098720" y="34056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11" descr="瑞云路"/>
          <p:cNvPicPr/>
          <p:nvPr/>
        </p:nvPicPr>
        <p:blipFill>
          <a:blip r:embed="rId5"/>
          <a:stretch/>
        </p:blipFill>
        <p:spPr>
          <a:xfrm>
            <a:off x="6359400" y="252360"/>
            <a:ext cx="5380200" cy="4505400"/>
          </a:xfrm>
          <a:prstGeom prst="rect">
            <a:avLst/>
          </a:prstGeom>
          <a:ln w="0">
            <a:noFill/>
          </a:ln>
        </p:spPr>
      </p:pic>
      <p:sp>
        <p:nvSpPr>
          <p:cNvPr id="79" name="任意多边形 12"/>
          <p:cNvSpPr/>
          <p:nvPr/>
        </p:nvSpPr>
        <p:spPr>
          <a:xfrm>
            <a:off x="7581960" y="2867040"/>
            <a:ext cx="514440" cy="619200"/>
          </a:xfrm>
          <a:custGeom>
            <a:avLst/>
            <a:gdLst/>
            <a:ahLst/>
            <a:rect l="l" t="t" r="r" b="b"/>
            <a:pathLst>
              <a:path w="514350" h="619125">
                <a:moveTo>
                  <a:pt x="0" y="400050"/>
                </a:moveTo>
                <a:lnTo>
                  <a:pt x="333375" y="552450"/>
                </a:lnTo>
                <a:lnTo>
                  <a:pt x="371475" y="619125"/>
                </a:lnTo>
                <a:lnTo>
                  <a:pt x="514350" y="228600"/>
                </a:lnTo>
                <a:lnTo>
                  <a:pt x="95250" y="0"/>
                </a:lnTo>
                <a:lnTo>
                  <a:pt x="9525" y="28575"/>
                </a:lnTo>
                <a:lnTo>
                  <a:pt x="19050" y="257175"/>
                </a:lnTo>
                <a:lnTo>
                  <a:pt x="0" y="40005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7623000" y="305424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45"/>
          <p:cNvGrpSpPr/>
          <p:nvPr/>
        </p:nvGrpSpPr>
        <p:grpSpPr>
          <a:xfrm>
            <a:off x="5423040" y="0"/>
            <a:ext cx="6435720" cy="6715080"/>
            <a:chOff x="5423040" y="0"/>
            <a:chExt cx="6435720" cy="6715080"/>
          </a:xfrm>
        </p:grpSpPr>
        <p:pic>
          <p:nvPicPr>
            <p:cNvPr id="82" name="图片 32" descr="青江片区-2"/>
            <p:cNvPicPr/>
            <p:nvPr/>
          </p:nvPicPr>
          <p:blipFill>
            <a:blip r:embed="rId1"/>
            <a:srcRect l="8714" t="7778" r="164" b="95"/>
            <a:stretch/>
          </p:blipFill>
          <p:spPr>
            <a:xfrm>
              <a:off x="5423040" y="0"/>
              <a:ext cx="6435720" cy="671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任意多边形 33"/>
            <p:cNvSpPr/>
            <p:nvPr/>
          </p:nvSpPr>
          <p:spPr>
            <a:xfrm>
              <a:off x="6695280" y="799560"/>
              <a:ext cx="829440" cy="252720"/>
            </a:xfrm>
            <a:custGeom>
              <a:avLst/>
              <a:gdLst/>
              <a:ahLst/>
              <a:rect l="l" t="t" r="r" b="b"/>
              <a:pathLst>
                <a:path w="704850" h="238125">
                  <a:moveTo>
                    <a:pt x="0" y="238125"/>
                  </a:moveTo>
                  <a:lnTo>
                    <a:pt x="0" y="0"/>
                  </a:lnTo>
                  <a:lnTo>
                    <a:pt x="704850" y="0"/>
                  </a:lnTo>
                  <a:lnTo>
                    <a:pt x="704850" y="238125"/>
                  </a:lnTo>
                  <a:lnTo>
                    <a:pt x="542925" y="180975"/>
                  </a:lnTo>
                  <a:lnTo>
                    <a:pt x="390525" y="180975"/>
                  </a:lnTo>
                  <a:lnTo>
                    <a:pt x="276225" y="190500"/>
                  </a:lnTo>
                  <a:lnTo>
                    <a:pt x="152400" y="228600"/>
                  </a:lnTo>
                  <a:lnTo>
                    <a:pt x="0" y="23812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34"/>
            <p:cNvSpPr/>
            <p:nvPr/>
          </p:nvSpPr>
          <p:spPr>
            <a:xfrm>
              <a:off x="6793560" y="812160"/>
              <a:ext cx="55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35"/>
            <p:cNvSpPr/>
            <p:nvPr/>
          </p:nvSpPr>
          <p:spPr>
            <a:xfrm>
              <a:off x="8047440" y="4231080"/>
              <a:ext cx="1177560" cy="1306080"/>
            </a:xfrm>
            <a:custGeom>
              <a:avLst/>
              <a:gdLst/>
              <a:ahLst/>
              <a:rect l="l" t="t" r="r" b="b"/>
              <a:pathLst>
                <a:path w="1000125" h="1228725">
                  <a:moveTo>
                    <a:pt x="428625" y="0"/>
                  </a:moveTo>
                  <a:lnTo>
                    <a:pt x="952500" y="266700"/>
                  </a:lnTo>
                  <a:lnTo>
                    <a:pt x="1000125" y="342900"/>
                  </a:lnTo>
                  <a:lnTo>
                    <a:pt x="485775" y="1228725"/>
                  </a:lnTo>
                  <a:lnTo>
                    <a:pt x="390525" y="1228725"/>
                  </a:lnTo>
                  <a:lnTo>
                    <a:pt x="200025" y="952500"/>
                  </a:lnTo>
                  <a:lnTo>
                    <a:pt x="9525" y="781050"/>
                  </a:lnTo>
                  <a:lnTo>
                    <a:pt x="0" y="685800"/>
                  </a:lnTo>
                  <a:lnTo>
                    <a:pt x="323850" y="28575"/>
                  </a:lnTo>
                  <a:lnTo>
                    <a:pt x="428625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36"/>
            <p:cNvSpPr/>
            <p:nvPr/>
          </p:nvSpPr>
          <p:spPr>
            <a:xfrm>
              <a:off x="8361000" y="4652640"/>
              <a:ext cx="55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41"/>
            <p:cNvSpPr/>
            <p:nvPr/>
          </p:nvSpPr>
          <p:spPr>
            <a:xfrm>
              <a:off x="9396720" y="3086640"/>
              <a:ext cx="554400" cy="717480"/>
            </a:xfrm>
            <a:custGeom>
              <a:avLst/>
              <a:gdLst/>
              <a:ahLst/>
              <a:rect l="l" t="t" r="r" b="b"/>
              <a:pathLst>
                <a:path w="390525" h="504825">
                  <a:moveTo>
                    <a:pt x="257175" y="0"/>
                  </a:moveTo>
                  <a:lnTo>
                    <a:pt x="0" y="457200"/>
                  </a:lnTo>
                  <a:lnTo>
                    <a:pt x="180975" y="504825"/>
                  </a:lnTo>
                  <a:lnTo>
                    <a:pt x="247650" y="485775"/>
                  </a:lnTo>
                  <a:lnTo>
                    <a:pt x="390525" y="247650"/>
                  </a:lnTo>
                  <a:lnTo>
                    <a:pt x="285750" y="209550"/>
                  </a:lnTo>
                  <a:lnTo>
                    <a:pt x="381000" y="57150"/>
                  </a:lnTo>
                  <a:lnTo>
                    <a:pt x="295275" y="0"/>
                  </a:lnTo>
                  <a:lnTo>
                    <a:pt x="257175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42"/>
            <p:cNvSpPr/>
            <p:nvPr/>
          </p:nvSpPr>
          <p:spPr>
            <a:xfrm>
              <a:off x="9468720" y="3439440"/>
              <a:ext cx="41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43"/>
            <p:cNvSpPr/>
            <p:nvPr/>
          </p:nvSpPr>
          <p:spPr>
            <a:xfrm>
              <a:off x="10926360" y="5537160"/>
              <a:ext cx="703080" cy="717120"/>
            </a:xfrm>
            <a:custGeom>
              <a:avLst/>
              <a:gdLst/>
              <a:ahLst/>
              <a:rect l="l" t="t" r="r" b="b"/>
              <a:pathLst>
                <a:path w="495300" h="504825">
                  <a:moveTo>
                    <a:pt x="266700" y="0"/>
                  </a:moveTo>
                  <a:lnTo>
                    <a:pt x="200025" y="19050"/>
                  </a:lnTo>
                  <a:lnTo>
                    <a:pt x="0" y="342900"/>
                  </a:lnTo>
                  <a:lnTo>
                    <a:pt x="0" y="400050"/>
                  </a:lnTo>
                  <a:lnTo>
                    <a:pt x="142875" y="504825"/>
                  </a:lnTo>
                  <a:lnTo>
                    <a:pt x="304800" y="266700"/>
                  </a:lnTo>
                  <a:lnTo>
                    <a:pt x="390525" y="314325"/>
                  </a:lnTo>
                  <a:lnTo>
                    <a:pt x="495300" y="161925"/>
                  </a:lnTo>
                  <a:lnTo>
                    <a:pt x="466725" y="104775"/>
                  </a:lnTo>
                  <a:lnTo>
                    <a:pt x="26670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44"/>
            <p:cNvSpPr/>
            <p:nvPr/>
          </p:nvSpPr>
          <p:spPr>
            <a:xfrm>
              <a:off x="10962360" y="5773680"/>
              <a:ext cx="44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9"/>
          <p:cNvGrpSpPr/>
          <p:nvPr/>
        </p:nvGrpSpPr>
        <p:grpSpPr>
          <a:xfrm>
            <a:off x="104760" y="160200"/>
            <a:ext cx="5143680" cy="6375600"/>
            <a:chOff x="104760" y="160200"/>
            <a:chExt cx="5143680" cy="6375600"/>
          </a:xfrm>
        </p:grpSpPr>
        <p:pic>
          <p:nvPicPr>
            <p:cNvPr id="92" name="图片 3" descr="水口片区"/>
            <p:cNvPicPr/>
            <p:nvPr/>
          </p:nvPicPr>
          <p:blipFill>
            <a:blip r:embed="rId6"/>
            <a:srcRect l="13862" t="18425" r="7096" b="-348"/>
            <a:stretch/>
          </p:blipFill>
          <p:spPr>
            <a:xfrm>
              <a:off x="104760" y="160200"/>
              <a:ext cx="5143680" cy="63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任意多边形 1"/>
            <p:cNvSpPr/>
            <p:nvPr/>
          </p:nvSpPr>
          <p:spPr>
            <a:xfrm>
              <a:off x="2259360" y="3355560"/>
              <a:ext cx="916560" cy="1175760"/>
            </a:xfrm>
            <a:custGeom>
              <a:avLst/>
              <a:gdLst/>
              <a:ahLst/>
              <a:rect l="l" t="t" r="r" b="b"/>
              <a:pathLst>
                <a:path w="848995" h="1036320">
                  <a:moveTo>
                    <a:pt x="579120" y="0"/>
                  </a:moveTo>
                  <a:lnTo>
                    <a:pt x="579120" y="603250"/>
                  </a:lnTo>
                  <a:lnTo>
                    <a:pt x="785495" y="548640"/>
                  </a:lnTo>
                  <a:lnTo>
                    <a:pt x="848995" y="825500"/>
                  </a:lnTo>
                  <a:lnTo>
                    <a:pt x="483870" y="1036320"/>
                  </a:lnTo>
                  <a:lnTo>
                    <a:pt x="0" y="55880"/>
                  </a:lnTo>
                  <a:lnTo>
                    <a:pt x="57912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446d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"/>
            <p:cNvSpPr/>
            <p:nvPr/>
          </p:nvSpPr>
          <p:spPr>
            <a:xfrm>
              <a:off x="2396160" y="3452760"/>
              <a:ext cx="35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19240" y="119160"/>
            <a:ext cx="6753240" cy="6618240"/>
          </a:xfrm>
          <a:prstGeom prst="rect">
            <a:avLst/>
          </a:prstGeom>
          <a:ln w="0">
            <a:noFill/>
          </a:ln>
        </p:spPr>
      </p:pic>
      <p:sp>
        <p:nvSpPr>
          <p:cNvPr id="96" name="任意多边形 4"/>
          <p:cNvSpPr/>
          <p:nvPr/>
        </p:nvSpPr>
        <p:spPr>
          <a:xfrm>
            <a:off x="3238560" y="4210200"/>
            <a:ext cx="799920" cy="1152360"/>
          </a:xfrm>
          <a:custGeom>
            <a:avLst/>
            <a:gdLst/>
            <a:ahLst/>
            <a:rect l="l" t="t" r="r" b="b"/>
            <a:pathLst>
              <a:path w="714375" h="1114425">
                <a:moveTo>
                  <a:pt x="257175" y="0"/>
                </a:moveTo>
                <a:lnTo>
                  <a:pt x="714375" y="847725"/>
                </a:lnTo>
                <a:lnTo>
                  <a:pt x="619125" y="933450"/>
                </a:lnTo>
                <a:lnTo>
                  <a:pt x="581025" y="1019175"/>
                </a:lnTo>
                <a:lnTo>
                  <a:pt x="485775" y="1114425"/>
                </a:lnTo>
                <a:lnTo>
                  <a:pt x="0" y="133350"/>
                </a:lnTo>
                <a:lnTo>
                  <a:pt x="257175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"/>
          <p:cNvSpPr/>
          <p:nvPr/>
        </p:nvSpPr>
        <p:spPr>
          <a:xfrm>
            <a:off x="3419640" y="4595760"/>
            <a:ext cx="3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10:08:00Z</dcterms:created>
  <dc:creator/>
  <dc:description/>
  <dc:language>en-US</dc:language>
  <cp:lastModifiedBy>嘿哈嘿哈</cp:lastModifiedBy>
  <dcterms:modified xsi:type="dcterms:W3CDTF">2022-01-10T06:42:13Z</dcterms:modified>
  <cp:revision>1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7221E43AD974154937E41423B1541D8</vt:lpwstr>
  </property>
  <property fmtid="{D5CDD505-2E9C-101B-9397-08002B2CF9AE}" pid="3" name="KSOProductBuildVer">
    <vt:lpwstr>2052-11.8.6.9023</vt:lpwstr>
  </property>
</Properties>
</file>